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923088" cy="10047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922800" cy="10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88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0"/>
          </p:nvPr>
        </p:nvSpPr>
        <p:spPr>
          <a:xfrm>
            <a:off x="3922560" y="-360"/>
            <a:ext cx="2998800" cy="501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949320" y="754200"/>
            <a:ext cx="5022720" cy="37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22320" y="4772160"/>
            <a:ext cx="5076720" cy="4519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1"/>
          </p:nvPr>
        </p:nvSpPr>
        <p:spPr>
          <a:xfrm>
            <a:off x="0" y="9543960"/>
            <a:ext cx="2998800" cy="5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2"/>
          </p:nvPr>
        </p:nvSpPr>
        <p:spPr>
          <a:xfrm>
            <a:off x="3922560" y="9543960"/>
            <a:ext cx="2998800" cy="501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79AC36A5-4FAF-4D50-82EF-F17154A25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22560" y="9543960"/>
            <a:ext cx="2998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74DCD2F-82EA-4C3D-BA5E-BEA3B88B8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9320" y="75420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2320" y="4772160"/>
            <a:ext cx="50767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49320" y="754200"/>
            <a:ext cx="5022720" cy="3767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2320" y="4772160"/>
            <a:ext cx="50767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22560" y="9543960"/>
            <a:ext cx="2998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872344B2-0168-43B3-9709-B40D31A1B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730-BC1F-4AAA-B7CB-968313A6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A76-8D59-4783-9BA5-7165E521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A8EF-02F8-4886-908D-7B85A162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994-CCEB-45A6-AF91-D32A7595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289B-538A-49CA-80D6-7F7AAEB5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B0C-7DEE-4624-903F-815ED915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65C0-1159-47AC-99CE-25FAD3D5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616A-85D3-4E1C-A06C-43667EEC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435F-2985-43BF-A23D-901A1D30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307-4F30-4782-96D9-BF3AD6B4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78CC-DF17-4524-964F-3C5230EB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2537-5582-4B12-A4F1-8F568E42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D9AB-BF03-4883-8327-DF0C5800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6714-EA81-4A91-B9BC-F7C803B1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571C-ECCF-44DA-AD16-FF9FC4D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41CF-FD1B-41C0-8991-8F97ECA6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4F9B-2835-4AB9-B7E6-61C0C7E0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E8CB-4557-4C50-9AF4-D81F6780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00B5-96F7-43A1-82DD-92F9CCE13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04E6-DEF4-4A91-A7E9-9755F744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FC7-7A7E-4ED6-8DE2-8BF774FA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A6AFA-66A1-4F53-98FE-9EE08783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35940-D667-4A81-8724-7C534604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354E-73C1-4344-B202-CF13BD14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E7DE-A6E1-4632-9B9B-2269F7A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88AA5-0375-428E-BF06-1366661C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61E0-9127-4737-9FBA-AC3BD8C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131BF-2FB7-4809-AEA2-0A335AA4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88391-C765-40C4-92C7-912B8101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44786-B6F9-49D1-B70F-E6E59F53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5BE23-E4DF-4D1D-95D4-9548BD56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949-6656-4B1D-86DD-6325D2A6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DF751-A7A5-4874-A07A-14B0CEC6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5CC-868D-4D37-B745-5FD4B319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E16-191D-465F-8A86-BDD3DED6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3E9-B922-4302-9DF1-11B51370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3DC7-F6BF-435D-AD98-1EBA357162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F43F-DCA7-466C-991F-4F3C9994C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imGoatsLogo_PrintVersion"/>
          <p:cNvPicPr/>
          <p:nvPr/>
        </p:nvPicPr>
        <p:blipFill>
          <a:blip r:embed="rId2"/>
          <a:stretch/>
        </p:blipFill>
        <p:spPr>
          <a:xfrm>
            <a:off x="8001000" y="0"/>
            <a:ext cx="950760" cy="9288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107172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4" descr="imGoatsLogo_PrintVersion"/>
          <p:cNvPicPr/>
          <p:nvPr/>
        </p:nvPicPr>
        <p:blipFill>
          <a:blip r:embed="rId2"/>
          <a:stretch/>
        </p:blipFill>
        <p:spPr>
          <a:xfrm>
            <a:off x="8072280" y="0"/>
            <a:ext cx="878040" cy="857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13A6-CE7A-4479-A861-7BE96F4531E4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03D3-341F-4CE3-A6D8-0363D978D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9BCF-490C-4BBE-B880-285CB20BEBA7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253C-C7CB-4532-A3DD-EDCDEDEF1C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Opening slide Global_PPT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>
            <a:off x="747720" y="311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84807"/>
                </a:solidFill>
                <a:latin typeface="Calibri"/>
                <a:ea typeface="Calibri"/>
              </a:rPr>
              <a:t> </a:t>
            </a:r>
            <a:r>
              <a:rPr b="0" lang="en-GB" sz="2400" spc="-1" strike="noStrike">
                <a:solidFill>
                  <a:srgbClr val="984807"/>
                </a:solidFill>
                <a:latin typeface="Calibri"/>
                <a:ea typeface="Calibri"/>
              </a:rPr>
              <a:t>Small ruminant value chains to reduce poverty and increase food security in India and Mozamb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imGoatsLogo_PrintVersion"/>
          <p:cNvPicPr/>
          <p:nvPr/>
        </p:nvPicPr>
        <p:blipFill>
          <a:blip r:embed="rId2"/>
          <a:stretch/>
        </p:blipFill>
        <p:spPr>
          <a:xfrm>
            <a:off x="7572240" y="214200"/>
            <a:ext cx="1067040" cy="10414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2"/>
          <p:cNvSpPr/>
          <p:nvPr/>
        </p:nvSpPr>
        <p:spPr>
          <a:xfrm>
            <a:off x="2125800" y="1477800"/>
            <a:ext cx="514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c00000"/>
                </a:solidFill>
                <a:latin typeface="Calibri"/>
                <a:ea typeface="Calibri"/>
              </a:rPr>
              <a:t>Outcome Mapp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alibri"/>
                <a:ea typeface="Calibri"/>
              </a:rPr>
              <a:t>Mozamb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" descr="Vertical elect"/>
          <p:cNvPicPr/>
          <p:nvPr/>
        </p:nvPicPr>
        <p:blipFill>
          <a:blip r:embed="rId3"/>
          <a:stretch/>
        </p:blipFill>
        <p:spPr>
          <a:xfrm>
            <a:off x="7570800" y="1714680"/>
            <a:ext cx="135900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EuropeanUnion.png"/>
          <p:cNvPicPr/>
          <p:nvPr/>
        </p:nvPicPr>
        <p:blipFill>
          <a:blip r:embed="rId4"/>
          <a:stretch/>
        </p:blipFill>
        <p:spPr>
          <a:xfrm>
            <a:off x="6632640" y="6067440"/>
            <a:ext cx="973080" cy="647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IFAD"/>
          <p:cNvPicPr/>
          <p:nvPr/>
        </p:nvPicPr>
        <p:blipFill>
          <a:blip r:embed="rId5"/>
          <a:stretch/>
        </p:blipFill>
        <p:spPr>
          <a:xfrm>
            <a:off x="7848720" y="5996160"/>
            <a:ext cx="1081080" cy="669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http://www.baif.org.in/images/btn/logo1.jpg"/>
          <p:cNvPicPr/>
          <p:nvPr/>
        </p:nvPicPr>
        <p:blipFill>
          <a:blip r:embed="rId6"/>
          <a:stretch/>
        </p:blipFill>
        <p:spPr>
          <a:xfrm>
            <a:off x="5435640" y="6446880"/>
            <a:ext cx="868320" cy="214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http://www.baif.org.in/images/btn/baiflogo.jpg"/>
          <p:cNvPicPr/>
          <p:nvPr/>
        </p:nvPicPr>
        <p:blipFill>
          <a:blip r:embed="rId7"/>
          <a:stretch/>
        </p:blipFill>
        <p:spPr>
          <a:xfrm>
            <a:off x="5651640" y="5902200"/>
            <a:ext cx="428400" cy="544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-355680" y="-171360"/>
            <a:ext cx="9987120" cy="7029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-339840" y="0"/>
            <a:ext cx="98236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5"/>
          <p:cNvSpPr/>
          <p:nvPr/>
        </p:nvSpPr>
        <p:spPr>
          <a:xfrm>
            <a:off x="2362320" y="5867280"/>
            <a:ext cx="4562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imGoatsLogo_PrintVersion"/>
          <p:cNvPicPr/>
          <p:nvPr/>
        </p:nvPicPr>
        <p:blipFill>
          <a:blip r:embed="rId2"/>
          <a:stretch/>
        </p:blipFill>
        <p:spPr>
          <a:xfrm>
            <a:off x="7572240" y="214200"/>
            <a:ext cx="1067040" cy="10414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" descr="Vertical elect"/>
          <p:cNvPicPr/>
          <p:nvPr/>
        </p:nvPicPr>
        <p:blipFill>
          <a:blip r:embed="rId3"/>
          <a:stretch/>
        </p:blipFill>
        <p:spPr>
          <a:xfrm>
            <a:off x="7570800" y="1714680"/>
            <a:ext cx="1359000" cy="1500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EuropeanUnion.png"/>
          <p:cNvPicPr/>
          <p:nvPr/>
        </p:nvPicPr>
        <p:blipFill>
          <a:blip r:embed="rId4"/>
          <a:stretch/>
        </p:blipFill>
        <p:spPr>
          <a:xfrm>
            <a:off x="6632640" y="6067440"/>
            <a:ext cx="973080" cy="647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IFAD"/>
          <p:cNvPicPr/>
          <p:nvPr/>
        </p:nvPicPr>
        <p:blipFill>
          <a:blip r:embed="rId5"/>
          <a:stretch/>
        </p:blipFill>
        <p:spPr>
          <a:xfrm>
            <a:off x="7848720" y="5996160"/>
            <a:ext cx="1081080" cy="669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http://www.baif.org.in/images/btn/logo1.jpg"/>
          <p:cNvPicPr/>
          <p:nvPr/>
        </p:nvPicPr>
        <p:blipFill>
          <a:blip r:embed="rId6"/>
          <a:stretch/>
        </p:blipFill>
        <p:spPr>
          <a:xfrm>
            <a:off x="5508720" y="6518160"/>
            <a:ext cx="868320" cy="214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http://www.baif.org.in/images/btn/baiflogo.jpg"/>
          <p:cNvPicPr/>
          <p:nvPr/>
        </p:nvPicPr>
        <p:blipFill>
          <a:blip r:embed="rId7"/>
          <a:stretch/>
        </p:blipFill>
        <p:spPr>
          <a:xfrm>
            <a:off x="5724360" y="5975280"/>
            <a:ext cx="427320" cy="5428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19280" y="-273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did you put OM into practice? 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7280" y="1197000"/>
            <a:ext cx="7745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e planned to do after July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an overview of data that were already 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 types of information collected by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r group registration (once, group lev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icipant registration (once, individ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vet participation (twice, for tra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 of producer trainings (group, every tra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gister of goats sales at fairs (every fa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imal health and productivity tool (regularly by parave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P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 reports (every IP mee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315200" cy="4114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1450800" y="-27000"/>
            <a:ext cx="80899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19280" y="-273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did you put OM into practice? 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87280" y="1196640"/>
            <a:ext cx="7745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additional d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4 outcome journals: 1 for each boundary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k CARE project and extension officers to regularly fill in each journal based on their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://4.bp.blogspot.com/-L2ECejk3UOI/TpNX4s89KxI/AAAAAAAAARM/18nAcQSIcpc/s1600/di%25C3%25A1rio.jpg"/>
          <p:cNvPicPr/>
          <p:nvPr/>
        </p:nvPicPr>
        <p:blipFill>
          <a:blip r:embed="rId1"/>
          <a:stretch/>
        </p:blipFill>
        <p:spPr>
          <a:xfrm>
            <a:off x="6084720" y="4032360"/>
            <a:ext cx="286884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19280" y="-2736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How did you put OM into practice? 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87280" y="1197000"/>
            <a:ext cx="774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e d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 using the journal we had a team meeting with th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o discover what OM information the entire imGoats team ‘intuitively’ can come up with – know by heart - and to test if the idea of a monthly meeting to gather information works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http://4.bp.blogspot.com/-L2ECejk3UOI/TpNX4s89KxI/AAAAAAAAARM/18nAcQSIcpc/s1600/di%25C3%25A1rio.jpg"/>
          <p:cNvPicPr/>
          <p:nvPr/>
        </p:nvPicPr>
        <p:blipFill>
          <a:blip r:embed="rId1"/>
          <a:stretch/>
        </p:blipFill>
        <p:spPr>
          <a:xfrm>
            <a:off x="7093080" y="4975200"/>
            <a:ext cx="186048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-1717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Arial"/>
              </a:rPr>
              <a:t>OM team meeting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58920" y="1123560"/>
            <a:ext cx="73152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useful to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talk abou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nges – instead of wri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iences and ideas of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ll team memb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n be sha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Journal ques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basis for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520" y="-1717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Arial"/>
              </a:rPr>
              <a:t>OM team meeting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836280"/>
            <a:ext cx="73152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total amount of information the team knows ‘intuitively’ seemed to b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collect OM data in a monthly mee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eeting took almost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4 hour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iscuss all progress markers. This was considered accep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ollected OM data seemed to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e more robus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discussed – and questioned – by the entire team, instead of asking individuals to fill in a for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such a meeting  goes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beyond OM data collec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t was considered very useful for all team members to discuss project progress and challenges toge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520" y="-1004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Arial"/>
              </a:rPr>
              <a:t>OM team meeting 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332000" y="980640"/>
            <a:ext cx="7315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clear if th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pt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collected data is sufficient for a robust OM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ing devic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eared to be useful to check the information when composing the re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as not decided yet how t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OM (incl. language of notes and report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would be good to verify behavioural changes and follow-up questions with stakeholders in the field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eld vis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-27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0033"/>
                </a:solidFill>
                <a:latin typeface="Arial"/>
              </a:rPr>
              <a:t>Adjustments and follow-up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32000" y="980640"/>
            <a:ext cx="73152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mall adjustments in OM framewor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few progress markers have been reformulated or remov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justment of t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ur outcome journals were merged into one ‘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acilitator guide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stions were added on Capacity building &amp; Ge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on frequency of meet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thly OM team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guage of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etings are in Portuguese, notes are made in English (by Mila and Birg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es are translated into Portuguese to share with team members before next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alitative data fi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e  document (OM report) is monthly updated with the notes of each meeting and information from IP repor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eld vis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d on most recent OM meeting, to follow-up and verify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DownieNginiK</dc:creator>
  <dc:description/>
  <dc:language>en-US</dc:language>
  <cp:lastModifiedBy>eleborgne</cp:lastModifiedBy>
  <dcterms:modified xsi:type="dcterms:W3CDTF">2012-07-05T06:23:14Z</dcterms:modified>
  <cp:revision>238</cp:revision>
  <dc:subject/>
  <dc:title>PowerPoint Presentation</dc:title>
</cp:coreProperties>
</file>